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FA59-8DBD-4D7A-BCEB-1EDD8163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E16-9AB3-4585-8E89-8EF85EA2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A05-77BF-4CA2-8E28-8BD446EE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CF2-84D6-4C6E-97F1-B2C07880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DC2-4A27-4265-9F3C-8BF8210F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7BFF-75A8-4706-9249-7832FB8D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3E1B-F271-46A5-A2D6-A1C69E2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8A62-42E1-47B0-9E96-585A808D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31D3-98C4-4A14-84EC-19FDC270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1A8A-AB56-4D51-8318-A7AAABD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6CAC-83EE-44ED-B845-3B62E4BE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6BF-FB3D-48C1-A046-36A5835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7510-A9B3-4273-A9D3-0DC79C7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703E-052D-46E7-815C-68D16ED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764B-D9E7-400D-A649-C76EAC14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1FA-9051-4543-A3CC-A346D603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7860-A429-4F82-B034-0BF0C188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E2E-D5D3-4C79-8D0F-FBB39A61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114-6F58-4F35-B7CC-9EFE7B3A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6CE-F7D5-4A64-80A0-E811FC37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1E7-88C5-4829-BC8C-5E41384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568-ED20-424E-8BC2-000B9AF1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B580-A42D-4EF4-A079-9A6E63C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78B-6AD9-420A-9585-41718A0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75A0-00F0-4EB3-9770-985BA3066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E3B8-66B0-4193-A7D4-D0EA39A04515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6193080" cy="23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Needs Analysi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Administering the needs analysi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ho will administer the needs analysi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ho will collect and analyze the result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academic or research assista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colleagues in different depart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students who piloted the questionnai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academic staff of the univers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* secretarial suppor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Procedures for conducting needs analysi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Questionnair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elf-rati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terview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bserv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ollecting learner language samp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Task analysi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Analysis of available informatio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Design of Questionnair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he following questions need to be considered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Preliminary ques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types of information asked f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How the questions are word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type of items in the questionnair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open questions, closed questions, checklist, rating scale, ranking, invento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A disadvantage  of Questionnaire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information obtained may be fairly superficial or imprecis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e information will often need follow-up to gain a fuller understand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* Advice: to familiar with the principles of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good questionnaire desig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Self-rating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lf-ratings might be included as part of a questionnair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isadvantage: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It provides only impressionistic inform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Interview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Allow for a more in-depth exploration of issu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may be useful at the preliminary stage of design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a questionnair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is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Take longer to administ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Only feasible for smaller group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Meeting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Allows a large amount of information to b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ollected in a fairly short tim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isadvantage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Information may be impressionistic and subjectiv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Observ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Take into account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People often do not perform well when they are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observed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* The skill of observer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Collecting learner language samp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Language samples may be collected throug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Written or oral task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mulations or role play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chievement te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Performance te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Task analysi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nalysis the tasks the learners will have to carry out in English in a future occupational or educational sett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Introduction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What are 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Needs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Wants, desires, demands, expectation, motivations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lacks, constraints, and requirements (Brindley 198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What is 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Needs Analysis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Procedures for collecting information about learners</a:t>
            </a:r>
            <a:r>
              <a:rPr b="0" lang="zh-TW" sz="2800" spc="-1" strike="noStrike">
                <a:solidFill>
                  <a:srgbClr val="006699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ed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When did 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Needs Analysis</a:t>
            </a:r>
            <a:r>
              <a:rPr b="1" lang="zh-TW" sz="36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3600" spc="-1" strike="noStrike">
                <a:solidFill>
                  <a:srgbClr val="006699"/>
                </a:solidFill>
                <a:latin typeface="Times New Roman"/>
              </a:rPr>
              <a:t> emerge?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In the 1960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SP movem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Case studi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7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single student or a selected group of students is followed through a relevant work or educational experience in order to determine the characteristics of that situ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nalysis of available inform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Journal artic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Reports and survey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Records and fi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Verdana"/>
              </a:rPr>
              <a:t>Designing the needs analysis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cedures for bigger-sca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Literature survey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Analysis of a wide range of survey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Contact with other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Interviews with teacher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Identification of participating department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Presentation of project proposal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Development of a pilot student and staff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Review of the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Verdana"/>
              </a:rPr>
              <a:t>Designing the needs analysis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Piloting of the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Selection of staff and student subject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Developing a schedule for collecting data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Administration of questionnair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Follow-up interviews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Tabulation or respons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Analysis of response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Writing up of report and recommendations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66"/>
                </a:solidFill>
                <a:latin typeface="Verdana"/>
              </a:rPr>
              <a:t>Designing the needs analysis</a:t>
            </a:r>
            <a:endParaRPr b="0" lang="en-US" sz="3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cedures for smaller-scale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Initial questionnai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llow-up individual and group interview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Meetings with stud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Meetings with other teach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Ongoing classroom observ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es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Making use of the information obtain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Making a list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consists of information collected from different source and summarized in rank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More analysis and researc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..The primary goal of analysis is to bring meaning to the obtained information …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(Stufflebeam et al. 1985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ake different views into account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learner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academic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employer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teacher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view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Making use of the information obtained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6438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The format for reporting the finding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full written docu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short summary docume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meet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group discuss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 newslet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Georgia"/>
              </a:rPr>
              <a:t>Thank you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purpose of needs analysi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1. To find out what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language skills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a learner nee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2. To help determine if an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existing course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adequately addresses the needs of potential stude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3. To determine which students are most in need of training in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particular language skil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purpose of needs analysi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4. To identify a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change of direction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that people in a reference group feel is importa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5. To identify a gap between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what students are able to do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what they need to be able to d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6. To collect information about a </a:t>
            </a: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particular problem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learners are experienc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purpose of needs analysis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eeds</a:t>
            </a:r>
            <a:r>
              <a:rPr b="0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also includes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students</a:t>
            </a:r>
            <a:r>
              <a:rPr b="1" lang="zh-TW" sz="24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righ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It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 school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s responsibility to take into account the cultural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political, and personal characteristics of students …. in order to plan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activities and objectives that are realistic and purposeful.</a:t>
            </a:r>
            <a:r>
              <a:rPr b="0" lang="zh-TW" sz="2000" spc="-1" strike="noStrike">
                <a:solidFill>
                  <a:srgbClr val="006699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(Linse, 1993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eeds also includes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erceived and present needs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otential and unrecognized need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Needs analysis may take pla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prior to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dur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a language progra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Examples of needs analyses conducted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prior to a language program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ethod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aff questionnaire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background information about the course the lecturer w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describ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overview of problems experienced by ESL stude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linguistic demands of the cour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suggestions to which language skills should be focuses 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* modifications made in teaching or in examinations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udents questionnair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he users of needs analysi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g-scale needs analys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urriculum officers in the ministry of educ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Learn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Writ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sting personn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aff of tertiary institution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mall-scale needs analysi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ach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rogram coordinato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he target popul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Language learners or potential language learn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olicy mak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Ministry of education officia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cademic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Employ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Vocational training specialis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Influential individuals and pressure group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Academic specialis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ommunity agenci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The target popula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ubcategories of responde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udents currently enrolled in a foreign language cours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udents previously enrolled but no longer studying a langu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tudents who have never studied a foreign langu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An important issue in determining the target population: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ampl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Sampling involves asking a portion of potential population instead of the total popul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8:28:56Z</dcterms:created>
  <dc:creator>BWIS_USER</dc:creator>
  <dc:description/>
  <dc:language>en-US</dc:language>
  <cp:lastModifiedBy>Jonathan Vela</cp:lastModifiedBy>
  <dcterms:modified xsi:type="dcterms:W3CDTF">2016-03-19T16:35:51Z</dcterms:modified>
  <cp:revision>56</cp:revision>
  <dc:subject/>
  <dc:title>Needs Analysis</dc:title>
</cp:coreProperties>
</file>